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5F3-0F0C-41FC-96B6-BDF784F3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003-B5ED-4F20-A87A-67D61C40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A817-5034-4375-903A-152FF5A8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A98-D0D9-4CEF-9856-B51AF548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9B2-0FB6-4225-B543-9DEC1D00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143-B4AA-4211-AAF3-4ACF85BD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263-2724-4AC8-B82E-5614894F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1B9-EB5C-4D06-ACFE-97CAB3A9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A749-E743-4D27-A2B5-B60B9898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E82-A96D-400C-AED8-DC5893B5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55F-8062-40A0-AE5C-36643F02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9A5-8947-4780-B992-89615889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E62A-4893-4CF8-B57D-E2818BD243B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229360"/>
            <a:ext cx="594036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Ruqah2 Normal"/>
              </a:rPr>
              <a:t>يا عطش الأروا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5280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60640" y="0"/>
            <a:ext cx="5283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بُّكَ يكف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دربُك يَهد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عينُك تَحم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نورُك يُغنينا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5280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63920" y="0"/>
            <a:ext cx="4780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خبزُك يُحي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خمرُك يَرو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بُّك يَعط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نوراً وحياة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5280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7:41:27Z</dcterms:created>
  <dc:creator>Charbel Azar</dc:creator>
  <dc:description/>
  <dc:language>en-US</dc:language>
  <cp:lastModifiedBy>ف</cp:lastModifiedBy>
  <dcterms:modified xsi:type="dcterms:W3CDTF">2006-04-24T22:50:29Z</dcterms:modified>
  <cp:revision>5</cp:revision>
  <dc:subject/>
  <dc:title>Slide 1</dc:title>
</cp:coreProperties>
</file>